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7.png" ContentType="image/png"/>
  <Override PartName="/ppt/media/wildcat%5B1%5D.wav" ContentType="audio/x-wav"/>
  <Override PartName="/ppt/media/whoosh.wav" ContentType="audio/x-wav"/>
  <Override PartName="/ppt/media/explode.wav" ContentType="audio/x-wav"/>
  <Override PartName="/ppt/media/image15.gif" ContentType="image/gif"/>
  <Override PartName="/ppt/media/driveby.wav" ContentType="audio/x-wav"/>
  <Override PartName="/ppt/media/image16.gif" ContentType="image/gif"/>
  <Override PartName="/ppt/media/image14.png" ContentType="image/png"/>
  <Override PartName="/ppt/media/image12.png" ContentType="image/png"/>
  <Override PartName="/ppt/media/bionicfx.wav" ContentType="audio/x-wav"/>
  <Override PartName="/ppt/media/gorditas.wav" ContentType="audio/x-wav"/>
  <Override PartName="/ppt/media/image18.png" ContentType="image/png"/>
  <Override PartName="/ppt/media/type.wav" ContentType="audio/x-wav"/>
  <Override PartName="/ppt/media/augah%5B1%5D.wav" ContentType="audio/x-wav"/>
  <Override PartName="/ppt/media/ricochet.wav" ContentType="audio/x-wav"/>
  <Override PartName="/ppt/media/projctor.wav" ContentType="audio/x-wav"/>
  <Override PartName="/ppt/media/image22.png" ContentType="image/png"/>
  <Override PartName="/ppt/media/image8.gif" ContentType="image/gif"/>
  <Override PartName="/ppt/media/laser.wav" ContentType="audio/x-wav"/>
  <Override PartName="/ppt/media/boing21.wav" ContentType="audio/x-wav"/>
  <Override PartName="/ppt/media/image20.jpeg" ContentType="image/jpeg"/>
  <Override PartName="/ppt/media/whale.wav" ContentType="audio/x-wav"/>
  <Override PartName="/ppt/media/image19.jpeg" ContentType="image/jpeg"/>
  <Override PartName="/ppt/media/gunshot.wav" ContentType="audio/x-wav"/>
  <Override PartName="/ppt/media/image3.png" ContentType="image/png"/>
  <Override PartName="/ppt/media/clap.wav" ContentType="audio/x-wav"/>
  <Override PartName="/ppt/media/image13.gif" ContentType="image/gif"/>
  <Override PartName="/ppt/media/glass.wav" ContentType="audio/x-wav"/>
  <Override PartName="/ppt/media/rooster.wav" ContentType="audio/x-wav"/>
  <Override PartName="/ppt/media/FUELBUBL%5B1%5D.wav" ContentType="audio/x-wav"/>
  <Override PartName="/ppt/media/chimes.wav" ContentType="audio/x-wav"/>
  <Override PartName="/ppt/media/image21.jpeg" ContentType="image/jpeg"/>
  <Override PartName="/ppt/media/camera.wav" ContentType="audio/x-wav"/>
  <Override PartName="/ppt/media/drumroll.wav" ContentType="audio/x-wav"/>
  <Override PartName="/ppt/media/SN00039A.wav" ContentType="audio/x-wav"/>
  <Override PartName="/ppt/media/image7.png" ContentType="image/png"/>
  <Override PartName="/ppt/media/image6.png" ContentType="image/png"/>
  <Override PartName="/ppt/media/image5.gif" ContentType="image/gif"/>
  <Override PartName="/ppt/media/carbrake.wav" ContentType="audio/x-wav"/>
  <Override PartName="/ppt/media/image4.png" ContentType="image/png"/>
  <Override PartName="/ppt/media/gong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1.jpeg" ContentType="image/jpeg"/>
  <Override PartName="/ppt/media/powpow.wav" ContentType="audio/x-wav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F1B-EEA0-4A18-A1E6-A79069A2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B09-9C76-4288-830E-BFCA2B04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3E9-F60B-40B8-A63C-5D66561F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5B1-B451-4E5A-9818-F5F1A34C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DD7-2E52-41A5-A11C-95B7A16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B94-72A4-4C47-90F7-F7EB1AD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C74-C358-40F5-9E6A-581B6AAF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F98-FE7A-4F73-AFD6-0B143A88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33B-60D5-4214-901F-2859882C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EF2-2D3D-4D3F-84BC-ACC8515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EDE-1A24-4FE6-A757-BE15C20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B8B-6AFB-4531-8F63-766A16A6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Click to edit the title text format</a:t>
            </a: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493200" indent="-49320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Click to edit the outline text format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1" marL="714240" indent="-145440"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econd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2" marL="1133280" indent="-3434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Third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3" marL="1359720" indent="-150840">
              <a:spcBef>
                <a:spcPts val="1199"/>
              </a:spcBef>
              <a:buClr>
                <a:srgbClr val="ffff00"/>
              </a:buClr>
              <a:buFont typeface="Harlow Solid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Four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4" marL="1586160" indent="-150840">
              <a:spcBef>
                <a:spcPts val="1199"/>
              </a:spcBef>
              <a:buClr>
                <a:srgbClr val="ffff00"/>
              </a:buClr>
              <a:buFont typeface="Harlow Solid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Fif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5" marL="1586160" indent="-150840">
              <a:spcBef>
                <a:spcPts val="1199"/>
              </a:spcBef>
              <a:buClr>
                <a:srgbClr val="000000"/>
              </a:buClr>
              <a:buFont typeface="Harlow Solid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ix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6" marL="1586160" indent="-150840">
              <a:spcBef>
                <a:spcPts val="1199"/>
              </a:spcBef>
              <a:buClr>
                <a:srgbClr val="000000"/>
              </a:buClr>
              <a:buFont typeface="Harlow Solid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even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09E-2470-445A-B826-23867FC5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:\My Documents\My Pictures\coollogo_com.18721153"/>
          <p:cNvPicPr/>
          <p:nvPr/>
        </p:nvPicPr>
        <p:blipFill>
          <a:blip r:embed="rId6"/>
          <a:stretch/>
        </p:blipFill>
        <p:spPr>
          <a:xfrm>
            <a:off x="228600" y="1447920"/>
            <a:ext cx="8610480" cy="304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C:\My Documents\My Pictures\coollogo_com.18721153"/>
          <p:cNvPicPr/>
          <p:nvPr/>
        </p:nvPicPr>
        <p:blipFill>
          <a:blip r:embed="rId7"/>
          <a:stretch/>
        </p:blipFill>
        <p:spPr>
          <a:xfrm>
            <a:off x="228600" y="152280"/>
            <a:ext cx="86104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augah%5B1%5D.wav"/><Relationship Id="rId5" Type="http://schemas.openxmlformats.org/officeDocument/2006/relationships/audio" Target="../media/augah%5B1%5D.wav"/><Relationship Id="rId6" Type="http://schemas.openxmlformats.org/officeDocument/2006/relationships/audio" Target="../media/augah%5B1%5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augah%5B1%5D.wav"/><Relationship Id="rId5" Type="http://schemas.openxmlformats.org/officeDocument/2006/relationships/audio" Target="../media/augah%5B1%5D.wav"/><Relationship Id="rId6" Type="http://schemas.openxmlformats.org/officeDocument/2006/relationships/audio" Target="../media/augah%5B1%5D.wav"/><Relationship Id="rId7" Type="http://schemas.openxmlformats.org/officeDocument/2006/relationships/audio" Target="../media/augah%5B1%5D.wav"/><Relationship Id="rId8" Type="http://schemas.openxmlformats.org/officeDocument/2006/relationships/audio" Target="../media/augah%5B1%5D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gif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ildcat%5B1%5D.wav"/><Relationship Id="rId5" Type="http://schemas.openxmlformats.org/officeDocument/2006/relationships/audio" Target="../media/wildcat%5B1%5D.wav"/><Relationship Id="rId6" Type="http://schemas.openxmlformats.org/officeDocument/2006/relationships/audio" Target="../media/wildcat%5B1%5D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bionicfx.wav"/><Relationship Id="rId5" Type="http://schemas.openxmlformats.org/officeDocument/2006/relationships/audio" Target="../media/bionicfx.wav"/><Relationship Id="rId6" Type="http://schemas.openxmlformats.org/officeDocument/2006/relationships/audio" Target="../media/bionicfx.wav"/><Relationship Id="rId7" Type="http://schemas.openxmlformats.org/officeDocument/2006/relationships/audio" Target="../media/bionicfx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boing21.wav"/><Relationship Id="rId4" Type="http://schemas.openxmlformats.org/officeDocument/2006/relationships/audio" Target="../media/boing21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gong.wav"/><Relationship Id="rId4" Type="http://schemas.openxmlformats.org/officeDocument/2006/relationships/audio" Target="../media/gong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rooster.wav"/><Relationship Id="rId4" Type="http://schemas.openxmlformats.org/officeDocument/2006/relationships/audio" Target="../media/rooster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ale.wav"/><Relationship Id="rId5" Type="http://schemas.openxmlformats.org/officeDocument/2006/relationships/audio" Target="../media/whale.wav"/><Relationship Id="rId6" Type="http://schemas.openxmlformats.org/officeDocument/2006/relationships/audio" Target="../media/whal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powpow.wav"/><Relationship Id="rId4" Type="http://schemas.openxmlformats.org/officeDocument/2006/relationships/audio" Target="../media/powpow.wav"/><Relationship Id="rId5" Type="http://schemas.openxmlformats.org/officeDocument/2006/relationships/audio" Target="../media/powpow.wav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jpe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projctor.wav"/><Relationship Id="rId3" Type="http://schemas.openxmlformats.org/officeDocument/2006/relationships/audio" Target="../media/FUELBUBL%5B1%5D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SN00039A.wav"/><Relationship Id="rId5" Type="http://schemas.openxmlformats.org/officeDocument/2006/relationships/audio" Target="../media/SN00039A.wav"/><Relationship Id="rId6" Type="http://schemas.openxmlformats.org/officeDocument/2006/relationships/audio" Target="../media/SN00039A.wav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audio" Target="../media/SN00039A.wav"/><Relationship Id="rId4" Type="http://schemas.openxmlformats.org/officeDocument/2006/relationships/audio" Target="../media/gorditas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MT Assumption #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The particles in a gas move in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nstant random motion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Particles move in straight paths and are completely independent of each of oth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Particles path is only changed by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lliding 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with another particle or the sides of its container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MT Assumption #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All collisions a gas particle undergoes are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perfectly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elasti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No energy is lost from one particle to another, and the total kinetic energy remains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nstan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Gases have mas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6320" y="1828800"/>
            <a:ext cx="9067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Gases seem to be weightless, but they are classified as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matter</a:t>
            </a: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, which means they have mass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density</a:t>
            </a: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 of a gas – the mass per unit of volume – is much                  less than the density of a               liquid or solid, however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D:\PUB\Clipart\AG00019_.GIF"/>
          <p:cNvPicPr/>
          <p:nvPr/>
        </p:nvPicPr>
        <p:blipFill>
          <a:blip r:embed="rId1"/>
          <a:stretch/>
        </p:blipFill>
        <p:spPr>
          <a:xfrm>
            <a:off x="6172200" y="4137120"/>
            <a:ext cx="2682720" cy="248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06668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99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8600" y="5335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Gases have mas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t’s this very low density that allows us to be able to walk through the room without concerning ourselves with air resistanc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Since it is so easy to “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swim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” across the room we don’t put much thought into the mass of a ga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Really it is only noticeable if we have a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large collection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of gas in a containe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2280" y="228600"/>
            <a:ext cx="8610840" cy="662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Kinetic-Molecular theory explanation of it is that we assume that gases are composed of a collection of  particl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You can’t see these particles directly, so they are very tiny, and to notice any mass you must weigh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collection of the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t is usually necessary to have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mol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r more of gas particles to have significant a significant change in mas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28600" y="45720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4900" spc="-1" strike="noStrike" baseline="30000">
                <a:solidFill>
                  <a:srgbClr val="ff0066"/>
                </a:solidFill>
                <a:latin typeface="Kristen ITC"/>
              </a:rPr>
              <a:t>nd</a:t>
            </a:r>
            <a:r>
              <a:rPr b="1" lang="en-US" sz="4900" spc="-1" strike="noStrike">
                <a:solidFill>
                  <a:srgbClr val="ff0066"/>
                </a:solidFill>
                <a:latin typeface="Kristen ITC"/>
              </a:rPr>
              <a:t>– Gases “R” squeezable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28600" y="1905120"/>
            <a:ext cx="510552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f you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queez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 gas, its volume can be reduced considerab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 gases low density allows for there to a lot of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empty spac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between gas molecu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My Documents\Jason's Misc Stuff\images\chemistry\compress.gif"/>
          <p:cNvPicPr/>
          <p:nvPr/>
        </p:nvPicPr>
        <p:blipFill>
          <a:blip r:embed="rId3"/>
          <a:stretch/>
        </p:blipFill>
        <p:spPr>
          <a:xfrm>
            <a:off x="5410080" y="19051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304920"/>
            <a:ext cx="86868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 particles have a high velocity, relative to their mass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gives them a lot of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energy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nd movement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movement causes the gases to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pread out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, which leaves a lot of space between molecu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at empty space can be compressed by pressure allowing gas particles less room to move around thu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decreasing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 volum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kicon.com/yttriple/usedparts/shocks-h2.jpg"/>
          <p:cNvPicPr/>
          <p:nvPr/>
        </p:nvPicPr>
        <p:blipFill>
          <a:blip r:embed="rId1"/>
          <a:stretch/>
        </p:blipFill>
        <p:spPr>
          <a:xfrm>
            <a:off x="6710400" y="3819600"/>
            <a:ext cx="2281320" cy="3038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52280" y="228600"/>
            <a:ext cx="868680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empty space can be compressed simply by adding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We can use this ability of a gas to do work for u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nk of a shocks on a car.         You really are riding on a                pillow of ai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 bump in the road        compresses the gas in the         shocks until the bump’s             energy is absorb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Kristen ITC"/>
              </a:rPr>
              <a:t>3</a:t>
            </a:r>
            <a:r>
              <a:rPr b="1" lang="en-US" sz="4600" spc="-1" strike="noStrike" baseline="30000">
                <a:solidFill>
                  <a:srgbClr val="ff0066"/>
                </a:solidFill>
                <a:latin typeface="Kristen ITC"/>
              </a:rPr>
              <a:t>rd</a:t>
            </a:r>
            <a:r>
              <a:rPr b="1" lang="en-US" sz="4600" spc="-1" strike="noStrike">
                <a:solidFill>
                  <a:srgbClr val="ff0066"/>
                </a:solidFill>
                <a:latin typeface="Kristen ITC"/>
              </a:rPr>
              <a:t> – Gases fill their containers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28600" y="1905120"/>
            <a:ext cx="86868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expand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until they take up as much room as they possibly ca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spread out to fill containers until the concentration of gases i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uniform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roughout the entire spa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is why that nowhere around you is there an absence of air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Kristen ITC"/>
              </a:rPr>
              <a:t>IT’S A GAS…</a:t>
            </a:r>
            <a:endParaRPr b="1" lang="en-US" sz="6600" spc="-1" strike="noStrike">
              <a:solidFill>
                <a:srgbClr val="ff0066"/>
              </a:solidFill>
              <a:latin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My Documents\Lessons\unit plans\gas laws\phases.jpg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Kinetic-Molecular theory alludes to this by the fact that these particles are in constant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random mo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move in a straight line until it they collide with other particles or the sides of the container, which causes them to change directions until they collide with something els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bouncing off of everything around them spread the particles out until they ar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uniform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roughout the entire contain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228600"/>
            <a:ext cx="861048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f I opened up a bag of popcorn in front of the class you would soon be able to smell it in the back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opcorn smell is a high energy molecule or group of molecules that is in the gas stat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re are really two properties going on her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7320" indent="-4654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-  This property of gases spreading out until they have filled the room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7320" indent="-4654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-  And the property of </a:t>
            </a: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diffus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4</a:t>
            </a:r>
            <a:r>
              <a:rPr b="1" lang="en-US" sz="5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 – Gases diffus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1752480"/>
            <a:ext cx="89154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Gases can move through each other rapidly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movement of one substance through another is called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diffusio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Because of all of the empty space between gas molecules, another gas molecule can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pass between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them until each gas is spread out over the entire containe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same logic from the observation that gases spread out applies he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f the gases are in constant random motion the fact that they are moving and colliding with everything around them then they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will mix with other gases uniformly.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doesn’t happen at the sam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peed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for all gases thoug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ome gases diffuse more rapidly then other gases based on their size and their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iffusion explains why gases are able to spread out to fill their contain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t’s why we can all breath oxygen anywhere in the ro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t also helps us avoid            potential odoriferous          problem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My Documents\My Pictures\skunk_smell_lg_clr.gif"/>
          <p:cNvPicPr/>
          <p:nvPr/>
        </p:nvPicPr>
        <p:blipFill>
          <a:blip r:embed="rId4"/>
          <a:stretch/>
        </p:blipFill>
        <p:spPr>
          <a:xfrm>
            <a:off x="6172200" y="2666880"/>
            <a:ext cx="2220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5</a:t>
            </a:r>
            <a:r>
              <a:rPr b="1" lang="en-US" sz="5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 – Gases exert pressu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3505320"/>
            <a:ext cx="419112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um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ll of the collisions makes up the pressure the gas exert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8600" y="182880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 particles exert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by colliding with objects in their pa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C:\My Documents\Units\pics\gas pressure.gif"/>
          <p:cNvPicPr/>
          <p:nvPr/>
        </p:nvPicPr>
        <p:blipFill>
          <a:blip r:embed="rId3"/>
          <a:srcRect l="11266" t="11556" r="11266" b="28003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Kinetic-Molecular theory alludes to this by the fact that these particles are colliding with anything in their pa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magine a gas in a container as a room of hard rubber ball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collisions of the balls bouncing around exert a force on the object that with which they collid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definition of a pressure is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force per unit area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– so the total of all of the tiny collisions makes up the pressure exerted by the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5"/>
          <a:stretch/>
        </p:blipFill>
        <p:spPr>
          <a:xfrm>
            <a:off x="-99072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09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gases push against the walls of their containers with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for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ressure of gases is what keeps our tires inflated, makes our basketballs bounce, makes hairspray come out of the can, et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C:\Documents and Settings\jswango\Application Data\Microsoft\Media Catalog\Downloaded Clips\cl0\AG00422_.gif"/>
          <p:cNvPicPr/>
          <p:nvPr/>
        </p:nvPicPr>
        <p:blipFill>
          <a:blip r:embed="rId4"/>
          <a:stretch/>
        </p:blipFill>
        <p:spPr>
          <a:xfrm>
            <a:off x="5562720" y="3505320"/>
            <a:ext cx="246060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jswango\My Documents\My Pictures\car_lg_clr.gif"/>
          <p:cNvPicPr/>
          <p:nvPr/>
        </p:nvPicPr>
        <p:blipFill>
          <a:blip r:embed="rId5"/>
          <a:stretch/>
        </p:blipFill>
        <p:spPr>
          <a:xfrm>
            <a:off x="1219320" y="4253040"/>
            <a:ext cx="38862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6</a:t>
            </a:r>
            <a:r>
              <a:rPr b="1" lang="en-US" sz="4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 – Pressure depends on Te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320" y="1828800"/>
            <a:ext cx="906768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higher the temperature of a gas -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higher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 pressure that the gas exer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reverse of that is true as well,   a the temperature of a gas decreases – the pressur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decrease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nk about the pressure of a set of tires on a c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Kristen ITC"/>
              </a:rPr>
              <a:t>IT’S A GAS…</a:t>
            </a:r>
            <a:endParaRPr b="1" lang="en-US" sz="6600" spc="-1" strike="noStrike">
              <a:solidFill>
                <a:srgbClr val="ff0066"/>
              </a:solidFill>
              <a:latin typeface="Kristen ITC"/>
            </a:endParaRPr>
          </a:p>
        </p:txBody>
      </p:sp>
      <p:pic>
        <p:nvPicPr>
          <p:cNvPr id="45" name="vanessa mae - classical gas.mp3" descr=""/>
          <p:cNvPicPr/>
          <p:nvPr/>
        </p:nvPicPr>
        <p:blipFill>
          <a:blip r:embed="rId1"/>
          <a:stretch/>
        </p:blipFill>
        <p:spPr>
          <a:xfrm>
            <a:off x="-99072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45040" cy="3581640"/>
          </a:xfrm>
          <a:prstGeom prst="rect">
            <a:avLst/>
          </a:prstGeom>
          <a:ln w="76320">
            <a:solidFill>
              <a:srgbClr val="3333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06" name="Freeform 3"/>
          <p:cNvSpPr/>
          <p:nvPr/>
        </p:nvSpPr>
        <p:spPr>
          <a:xfrm>
            <a:off x="5499000" y="411480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cc99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7051680" y="3683160"/>
            <a:ext cx="7113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H="1" flipV="1">
            <a:off x="7254720" y="380952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594840" y="1676520"/>
            <a:ext cx="1974240" cy="10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Pressur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Gau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7407000" y="2666880"/>
            <a:ext cx="75960" cy="83844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807480" y="762120"/>
            <a:ext cx="4679280" cy="70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tencil"/>
              </a:rPr>
              <a:t>Today’s temp: 35°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45040" cy="3581640"/>
          </a:xfrm>
          <a:prstGeom prst="rect">
            <a:avLst/>
          </a:prstGeom>
          <a:ln w="76320">
            <a:solidFill>
              <a:srgbClr val="3333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13" name="Freeform 3"/>
          <p:cNvSpPr/>
          <p:nvPr/>
        </p:nvSpPr>
        <p:spPr>
          <a:xfrm>
            <a:off x="5499000" y="411480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cc99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7051680" y="3683160"/>
            <a:ext cx="7113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7407360" y="3733920"/>
            <a:ext cx="1364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94840" y="1676520"/>
            <a:ext cx="1974240" cy="10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Pressur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Gau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7407000" y="2666880"/>
            <a:ext cx="75960" cy="83844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-1371600" y="266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807480" y="762120"/>
            <a:ext cx="4679280" cy="70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tencil"/>
              </a:rPr>
              <a:t>Today’s temp: 85°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224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6</a:t>
            </a:r>
            <a:r>
              <a:rPr b="1" lang="en-US" sz="4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 – Pressure depends on Te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1828800"/>
            <a:ext cx="868680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reverse of that is true as well, a the temperature of a gas decreases –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he pressure decreas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nk about the pressure of a set of tires on a c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246320" y="2666880"/>
            <a:ext cx="68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hysical Science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t Powerpoint He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52280" y="1447920"/>
            <a:ext cx="8991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82520" indent="-220680">
              <a:lnSpc>
                <a:spcPct val="100000"/>
              </a:lnSpc>
              <a:spcBef>
                <a:spcPts val="850"/>
              </a:spcBef>
              <a:buClr>
                <a:srgbClr val="ff0066"/>
              </a:buClr>
              <a:buFont typeface="Kristen ITC"/>
              <a:buChar char="-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the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average kinetic energy</a:t>
            </a: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 of the particles that make up an objec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o you recall the definition of temperatur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8600" y="274320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higher the temperature the more th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more the energy the more impacts the gases adminis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mo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 impacts or collisions 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more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ressure exer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uffoon[1].wav" descr=""/>
          <p:cNvPicPr/>
          <p:nvPr/>
        </p:nvPicPr>
        <p:blipFill>
          <a:blip r:embed="rId5"/>
          <a:stretch/>
        </p:blipFill>
        <p:spPr>
          <a:xfrm>
            <a:off x="-6858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6320" y="0"/>
            <a:ext cx="8991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ressure increases when temperature increases because the molecules are moving with greater speed and colliding against the sides of their containers more oft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refore, the pressure inside that container is greater, because there are mor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collisi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C:\My Documents\Units\pics\figure5_5.gif"/>
          <p:cNvPicPr/>
          <p:nvPr/>
        </p:nvPicPr>
        <p:blipFill>
          <a:blip r:embed="rId3"/>
          <a:stretch/>
        </p:blipFill>
        <p:spPr>
          <a:xfrm>
            <a:off x="762120" y="4191120"/>
            <a:ext cx="7619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Measuring Ga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conditions under which a gas is studied is very important to its behavio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Experimental work in chemistry requires the measurement of such quantities as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volum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and the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amount of sampl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se quantities are called variables and if they are not accounted for then the results of the experiment might be jeopardized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ldcat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ldcat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ldcat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Gas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28600" y="1752480"/>
            <a:ext cx="89154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n order to describe a gas sample completely and then make predictions about its behavior under changed conditions, it is important to deal with the values of: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4419720"/>
            <a:ext cx="5562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1) amount of ga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09480" y="4952880"/>
            <a:ext cx="5562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2) volum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09480" y="5486400"/>
            <a:ext cx="5562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3) temperatur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09480" y="6019920"/>
            <a:ext cx="5562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4) pressur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Amount (</a:t>
            </a:r>
            <a:r>
              <a:rPr b="1" lang="en-US" sz="4400" spc="-1" strike="noStrike">
                <a:solidFill>
                  <a:srgbClr val="ffff00"/>
                </a:solidFill>
                <a:latin typeface="Kristen ITC"/>
              </a:rPr>
              <a:t>n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" y="1981080"/>
            <a:ext cx="86868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quantity of gas in a given sample expressed in terms of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moles of ga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is of course is in terms of        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6.02 x 10</a:t>
            </a:r>
            <a:r>
              <a:rPr b="1" lang="en-US" sz="3500" spc="-1" strike="noStrike" baseline="30000">
                <a:solidFill>
                  <a:srgbClr val="ff0066"/>
                </a:solidFill>
                <a:latin typeface="Kristen ITC"/>
              </a:rPr>
              <a:t>23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molecules of the gas. 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Don’t forget to convert mass to moles you just divide by the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molar mass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of the ga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Volume (</a:t>
            </a:r>
            <a:r>
              <a:rPr b="1" lang="en-US" sz="44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905120"/>
            <a:ext cx="89154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volume of the gas is simply the volume of the container it is contained i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metric unit of volume is the     liter (L)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re might also be problems that use cubic meters as the unit for volum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2520" indent="-220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- 1 L = 1 dm</a:t>
            </a:r>
            <a:r>
              <a:rPr b="1" lang="en-US" sz="3500" spc="-1" strike="noStrike" baseline="30000">
                <a:solidFill>
                  <a:srgbClr val="ff0066"/>
                </a:solidFill>
                <a:latin typeface="Kristen ITC"/>
              </a:rPr>
              <a:t>3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19120" indent="-51912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have some interesting characteristics that have fascinated scientists for 300 years.</a:t>
            </a: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  <a:p>
            <a:pPr marL="519120" indent="-51912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first gas to be studied wa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air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&amp; it was a long time before it was discovered that air was actually a mixture of particles rather than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ingle gas.</a:t>
            </a: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he Nature of Gas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-53352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-53352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61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emperature (</a:t>
            </a: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28600" y="198108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temperature of a gas is generally measured with a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thermometer 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n Celsius. 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All calculations involving gases should be made after converting the Celsius to Kelvin temperatur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3880" y="5530680"/>
            <a:ext cx="5867640" cy="87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99ffcc"/>
                </a:solidFill>
                <a:latin typeface="Kristen ITC"/>
              </a:rPr>
              <a:t>Kelvin = C° + 273</a:t>
            </a:r>
            <a:endParaRPr b="1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Pressure (</a:t>
            </a: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82880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pressure of a gas is the force exerted on the wall of the container a gas is trapped i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re are several units for pressure depending on the instrument used to measure it including: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38080" y="5105520"/>
            <a:ext cx="5562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1) atmospheres (atm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5715000"/>
            <a:ext cx="7543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2) Millimeters of Mercury (mmHg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38080" y="6248520"/>
            <a:ext cx="7543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3) Kilopascal (kPa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S T P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752480"/>
            <a:ext cx="9144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behavior of a gas depends very strongly on the temperature and the pressure at which the gas is held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o make it easier to discuss the behavior of a gas, it is convenient to designate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standard conditions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called STP.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6320" y="5562720"/>
            <a:ext cx="7619760" cy="61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-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Temperature = 0°C or 273K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320" y="6172200"/>
            <a:ext cx="9067680" cy="112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-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Pressure = 1atm or 760mmHg or 101.3kPa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os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os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Atmospheric Pressu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82880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gases in the air are exerting a pressure called atmospheric pressure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Atmospheric pressure is a result of the fact that air has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mass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is and is attracted by gravity producing a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forc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Knowing this atmospheric pressure and predicting changes in the atmospheric pressure is how forecasters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predict 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weathe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a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a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a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-83808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70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Atmospheric Pressu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82880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Atmospheric pressure varies with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altitude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2520" indent="-2206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- </a:t>
            </a: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the lower the altitude, the longer and heavier is the column of air above an area of the earth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Look on the back of a box of cake mix for the difference in baking times based on the atmospheric pressure in your regio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owp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owp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owp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Atmospheric Pressur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28600" y="1828800"/>
            <a:ext cx="8686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Low pressure or dropping pressure indicates a change of weather from fair to rai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High pressure is an                    indication of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clear                              skies and su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t all has to do with                              the amount of air                          pressing down on u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http://www.lu.se/info/teknikdag/barometer.jpeg"/>
          <p:cNvPicPr/>
          <p:nvPr/>
        </p:nvPicPr>
        <p:blipFill>
          <a:blip r:embed="rId4"/>
          <a:srcRect l="0" t="0" r="24388" b="0"/>
          <a:stretch/>
        </p:blipFill>
        <p:spPr>
          <a:xfrm>
            <a:off x="5257800" y="3076560"/>
            <a:ext cx="38862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Gas Law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tudies of the behavior of gases played a major role in the development of physical sciences in the 7</a:t>
            </a:r>
            <a:r>
              <a:rPr b="1" lang="en-US" sz="3600" spc="-1" strike="noStrike" baseline="30000">
                <a:solidFill>
                  <a:srgbClr val="ffff00"/>
                </a:solidFill>
                <a:latin typeface="Kristen ITC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8</a:t>
            </a:r>
            <a:r>
              <a:rPr b="1" lang="en-US" sz="3600" spc="-1" strike="noStrike" baseline="30000">
                <a:solidFill>
                  <a:srgbClr val="ffff00"/>
                </a:solidFill>
                <a:latin typeface="Kristen ITC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centuri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Kinetic Molecular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ory marked a significant achievement in understanding the behavior of gas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Observations have become mathematical laws which we can use to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dict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quantitative outcom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776320" y="609480"/>
            <a:ext cx="3694680" cy="82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Boyle’s La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Robert Boyle was among the first to note the relationship between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volum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e measured the volume of air at different pressures, and observed a pattern of behavior which led to his mathematical la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uring his experiment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amount of ga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weren’t allowed to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1905120"/>
            <a:ext cx="8915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But this realization did not make the study of gas behavior more difficul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lthough air is a mixture of several different gases, it behaves much the same as any single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648320"/>
            <a:ext cx="89154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Regardless of their chemical identity, gases tend to exhibit similar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hysical behavi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he Nature of Gas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My Documents\Jason's Misc Stuff\images\chemistry\compress.gif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"/>
          <p:cNvGrpSpPr/>
          <p:nvPr/>
        </p:nvGrpSpPr>
        <p:grpSpPr>
          <a:xfrm>
            <a:off x="3200400" y="457200"/>
            <a:ext cx="4191120" cy="2286000"/>
            <a:chOff x="3200400" y="457200"/>
            <a:chExt cx="4191120" cy="2286000"/>
          </a:xfrm>
        </p:grpSpPr>
        <p:sp>
          <p:nvSpPr>
            <p:cNvPr id="167" name="Rectangle 3"/>
            <p:cNvSpPr/>
            <p:nvPr/>
          </p:nvSpPr>
          <p:spPr>
            <a:xfrm>
              <a:off x="3200400" y="457200"/>
              <a:ext cx="4191120" cy="1311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Kristen ITC"/>
                </a:rPr>
                <a:t>As the pressure increases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"/>
            <p:cNvSpPr/>
            <p:nvPr/>
          </p:nvSpPr>
          <p:spPr>
            <a:xfrm>
              <a:off x="5410080" y="1752480"/>
              <a:ext cx="838440" cy="990720"/>
            </a:xfrm>
            <a:prstGeom prst="line">
              <a:avLst/>
            </a:prstGeom>
            <a:ln w="572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2057400" y="4267080"/>
            <a:ext cx="4267080" cy="1828800"/>
            <a:chOff x="2057400" y="4267080"/>
            <a:chExt cx="4267080" cy="1828800"/>
          </a:xfrm>
        </p:grpSpPr>
        <p:sp>
          <p:nvSpPr>
            <p:cNvPr id="170" name="Rectangle 7"/>
            <p:cNvSpPr/>
            <p:nvPr/>
          </p:nvSpPr>
          <p:spPr>
            <a:xfrm>
              <a:off x="2057400" y="4267080"/>
              <a:ext cx="4191120" cy="1311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99ff"/>
                  </a:solidFill>
                  <a:latin typeface="Kristen ITC"/>
                </a:rPr>
                <a:t>Volume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99ff"/>
                  </a:solidFill>
                  <a:latin typeface="Kristen ITC"/>
                </a:rPr>
                <a:t>decreases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4800600" y="5562720"/>
              <a:ext cx="1523880" cy="5331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685800" y="228600"/>
            <a:ext cx="7543800" cy="118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ow does Pressure and Volume of gases relate graphicall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387440" y="1676520"/>
            <a:ext cx="4937040" cy="416556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533520" y="2514600"/>
            <a:ext cx="519120" cy="2414160"/>
            <a:chOff x="533520" y="2514600"/>
            <a:chExt cx="519120" cy="2414160"/>
          </a:xfrm>
        </p:grpSpPr>
        <p:sp>
          <p:nvSpPr>
            <p:cNvPr id="175" name="Rectangle 6"/>
            <p:cNvSpPr/>
            <p:nvPr/>
          </p:nvSpPr>
          <p:spPr>
            <a:xfrm rot="16200000">
              <a:off x="-413640" y="3462120"/>
              <a:ext cx="241416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olum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806400" y="2590560"/>
              <a:ext cx="0" cy="9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"/>
          <p:cNvGrpSpPr/>
          <p:nvPr/>
        </p:nvGrpSpPr>
        <p:grpSpPr>
          <a:xfrm>
            <a:off x="2089080" y="6070680"/>
            <a:ext cx="3003120" cy="519120"/>
            <a:chOff x="2089080" y="6070680"/>
            <a:chExt cx="3003120" cy="519120"/>
          </a:xfrm>
        </p:grpSpPr>
        <p:sp>
          <p:nvSpPr>
            <p:cNvPr id="178" name="Rectangle 9"/>
            <p:cNvSpPr/>
            <p:nvPr/>
          </p:nvSpPr>
          <p:spPr>
            <a:xfrm>
              <a:off x="2089080" y="6070680"/>
              <a:ext cx="300312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Pressure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>
              <a:off x="3571200" y="6364080"/>
              <a:ext cx="12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Arc 11"/>
          <p:cNvSpPr/>
          <p:nvPr/>
        </p:nvSpPr>
        <p:spPr>
          <a:xfrm>
            <a:off x="1873080" y="2146320"/>
            <a:ext cx="3773520" cy="3419280"/>
          </a:xfrm>
          <a:custGeom>
            <a:avLst/>
            <a:gdLst>
              <a:gd name="textAreaLeft" fmla="*/ 0 w 3773520"/>
              <a:gd name="textAreaRight" fmla="*/ 3773880 w 3773520"/>
              <a:gd name="textAreaTop" fmla="*/ 0 h 3419280"/>
              <a:gd name="textAreaBottom" fmla="*/ 3419640 h 3419280"/>
            </a:gdLst>
            <a:ahLst/>
            <a:rect l="textAreaLeft" t="textAreaTop" r="textAreaRight" b="textAreaBottom"/>
            <a:pathLst>
              <a:path fill="none" w="23533" h="23815">
                <a:moveTo>
                  <a:pt x="23533" y="23728"/>
                </a:moveTo>
                <a:cubicBezTo>
                  <a:pt x="22890" y="23786"/>
                  <a:pt x="22245" y="23814"/>
                  <a:pt x="21600" y="23815"/>
                </a:cubicBezTo>
                <a:cubicBezTo>
                  <a:pt x="9670" y="23815"/>
                  <a:pt x="0" y="14144"/>
                  <a:pt x="0" y="2215"/>
                </a:cubicBezTo>
                <a:cubicBezTo>
                  <a:pt x="-1" y="1475"/>
                  <a:pt x="38" y="735"/>
                  <a:pt x="113" y="-1"/>
                </a:cubicBezTo>
              </a:path>
              <a:path stroke="0" w="23533" h="23815">
                <a:moveTo>
                  <a:pt x="23533" y="23728"/>
                </a:moveTo>
                <a:cubicBezTo>
                  <a:pt x="22890" y="23786"/>
                  <a:pt x="22245" y="23814"/>
                  <a:pt x="21600" y="23815"/>
                </a:cubicBezTo>
                <a:cubicBezTo>
                  <a:pt x="9670" y="23815"/>
                  <a:pt x="0" y="14144"/>
                  <a:pt x="0" y="2215"/>
                </a:cubicBezTo>
                <a:cubicBezTo>
                  <a:pt x="-1" y="1475"/>
                  <a:pt x="38" y="735"/>
                  <a:pt x="113" y="-1"/>
                </a:cubicBezTo>
                <a:lnTo>
                  <a:pt x="21600" y="2215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6773400" y="3151080"/>
            <a:ext cx="1480320" cy="641160"/>
          </a:xfrm>
          <a:prstGeom prst="rect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V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6339600" y="4249800"/>
            <a:ext cx="270432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Temperatur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# of partic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remain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92640" y="685800"/>
            <a:ext cx="7611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Boyle’s Mathematical Law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76320" y="2971800"/>
            <a:ext cx="313704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since PV = 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62320" y="3759120"/>
            <a:ext cx="3886200" cy="1028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80880" y="5257800"/>
            <a:ext cx="8153640" cy="17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Eg:  A gas has a volume of 3.0 L at 2 atm.  What is its volume at 4 atm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5960" y="1828800"/>
            <a:ext cx="90792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What if we had a change in conditio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UELBUB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variables you hav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070720" y="5683320"/>
            <a:ext cx="50011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P and V = Boyle’s L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04920" y="4114800"/>
            <a:ext cx="88390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law is being represent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62120" y="1584360"/>
            <a:ext cx="4343400" cy="28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2 at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3.0 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4 at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3) Rearrange the equation for the variable you don’t k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3200400"/>
            <a:ext cx="7010640" cy="192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4) Plug in the variables and chug it on a calculator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2800440" y="1752480"/>
            <a:ext cx="2666880" cy="1480320"/>
            <a:chOff x="2800440" y="1752480"/>
            <a:chExt cx="2666880" cy="1480320"/>
          </a:xfrm>
        </p:grpSpPr>
        <p:sp>
          <p:nvSpPr>
            <p:cNvPr id="195" name="Text Box 3"/>
            <p:cNvSpPr/>
            <p:nvPr/>
          </p:nvSpPr>
          <p:spPr>
            <a:xfrm>
              <a:off x="2973240" y="1752480"/>
              <a:ext cx="249408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P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1</a:t>
              </a: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V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1</a:t>
              </a: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   =   V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3124080" y="2514600"/>
              <a:ext cx="61956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P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2800440" y="243828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6"/>
          <p:cNvGrpSpPr/>
          <p:nvPr/>
        </p:nvGrpSpPr>
        <p:grpSpPr>
          <a:xfrm>
            <a:off x="1905120" y="4495680"/>
            <a:ext cx="4923720" cy="1481040"/>
            <a:chOff x="1905120" y="4495680"/>
            <a:chExt cx="4923720" cy="1481040"/>
          </a:xfrm>
        </p:grpSpPr>
        <p:sp>
          <p:nvSpPr>
            <p:cNvPr id="199" name="Text Box 12"/>
            <p:cNvSpPr/>
            <p:nvPr/>
          </p:nvSpPr>
          <p:spPr>
            <a:xfrm>
              <a:off x="1989360" y="4495680"/>
              <a:ext cx="483948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(2.0 atm)(3.0L)   =   V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2908800" y="5334120"/>
              <a:ext cx="16772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(4atm)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1905120" y="5181480"/>
              <a:ext cx="3448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5761800" y="5522760"/>
            <a:ext cx="2968200" cy="103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V</a:t>
            </a:r>
            <a:r>
              <a:rPr b="1" lang="en-US" sz="5400" spc="-1" strike="noStrike" baseline="-25000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 = 1.5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319480" y="609480"/>
            <a:ext cx="4298400" cy="82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Charles’s La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Jacques Charles determined the relationship between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volum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e measured the volume of air at different temperatures, and observed a pattern of behavior which led to his mathematical la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uring his experiment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the system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amount of ga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were held constan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My Documents\Lessons\unit plans\gas laws\March 6, 2000 (2).jpg"/>
          <p:cNvPicPr/>
          <p:nvPr/>
        </p:nvPicPr>
        <p:blipFill>
          <a:blip r:embed="rId1"/>
          <a:srcRect l="883" t="889" r="0" b="4137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4572000" y="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0" y="304920"/>
            <a:ext cx="2895480" cy="1295280"/>
            <a:chOff x="0" y="304920"/>
            <a:chExt cx="2895480" cy="1295280"/>
          </a:xfrm>
        </p:grpSpPr>
        <p:sp>
          <p:nvSpPr>
            <p:cNvPr id="209" name="Text Box 3"/>
            <p:cNvSpPr/>
            <p:nvPr/>
          </p:nvSpPr>
          <p:spPr>
            <a:xfrm>
              <a:off x="0" y="304920"/>
              <a:ext cx="2895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Kristen ITC"/>
                </a:rPr>
                <a:t>Volume of balloon at room temperatur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2209680" y="1447920"/>
              <a:ext cx="685800" cy="1522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1"/>
          <p:cNvGrpSpPr/>
          <p:nvPr/>
        </p:nvGrpSpPr>
        <p:grpSpPr>
          <a:xfrm>
            <a:off x="5029200" y="304920"/>
            <a:ext cx="2895480" cy="1295280"/>
            <a:chOff x="5029200" y="304920"/>
            <a:chExt cx="2895480" cy="1295280"/>
          </a:xfrm>
        </p:grpSpPr>
        <p:sp>
          <p:nvSpPr>
            <p:cNvPr id="212" name="Text Box 8"/>
            <p:cNvSpPr/>
            <p:nvPr/>
          </p:nvSpPr>
          <p:spPr>
            <a:xfrm>
              <a:off x="5029200" y="304920"/>
              <a:ext cx="28954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Kristen ITC"/>
                </a:rPr>
                <a:t>Volume of balloon at 5°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7238880" y="1143000"/>
              <a:ext cx="685800" cy="4572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-13716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492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7"/>
          <p:cNvGrpSpPr/>
          <p:nvPr/>
        </p:nvGrpSpPr>
        <p:grpSpPr>
          <a:xfrm>
            <a:off x="2546280" y="6070680"/>
            <a:ext cx="3003120" cy="519120"/>
            <a:chOff x="2546280" y="6070680"/>
            <a:chExt cx="3003120" cy="519120"/>
          </a:xfrm>
        </p:grpSpPr>
        <p:sp>
          <p:nvSpPr>
            <p:cNvPr id="216" name="Rectangle 8"/>
            <p:cNvSpPr/>
            <p:nvPr/>
          </p:nvSpPr>
          <p:spPr>
            <a:xfrm>
              <a:off x="2546280" y="6070680"/>
              <a:ext cx="300312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4028400" y="6364080"/>
              <a:ext cx="12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Rectangle 2"/>
          <p:cNvSpPr/>
          <p:nvPr/>
        </p:nvSpPr>
        <p:spPr>
          <a:xfrm>
            <a:off x="609480" y="45720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ow does Temperature and Volume of gases relate graphicall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844640" y="1981080"/>
            <a:ext cx="4378320" cy="386100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116000" y="2832120"/>
            <a:ext cx="519120" cy="2414160"/>
            <a:chOff x="1116000" y="2832120"/>
            <a:chExt cx="519120" cy="2414160"/>
          </a:xfrm>
        </p:grpSpPr>
        <p:sp>
          <p:nvSpPr>
            <p:cNvPr id="221" name="Rectangle 5"/>
            <p:cNvSpPr/>
            <p:nvPr/>
          </p:nvSpPr>
          <p:spPr>
            <a:xfrm rot="16200000">
              <a:off x="168480" y="3779640"/>
              <a:ext cx="241416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olum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 flipV="1">
              <a:off x="1388880" y="2908080"/>
              <a:ext cx="0" cy="9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6793920" y="3151080"/>
            <a:ext cx="1628280" cy="641160"/>
          </a:xfrm>
          <a:prstGeom prst="rect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6339600" y="4249800"/>
            <a:ext cx="270432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Pressur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# of partic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remain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2133720" y="2286000"/>
            <a:ext cx="3809880" cy="3124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15160" y="685800"/>
            <a:ext cx="816480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Charles’s Mathematical Law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781720" y="2514600"/>
            <a:ext cx="30106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ince V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80880" y="5715000"/>
            <a:ext cx="8153640" cy="106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Kristen ITC"/>
              </a:rPr>
              <a:t>Eg:  A gas has a volume of 3.0 L at 127°C.  What is its volume at 227 °C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3"/>
          <p:cNvGrpSpPr/>
          <p:nvPr/>
        </p:nvGrpSpPr>
        <p:grpSpPr>
          <a:xfrm>
            <a:off x="2209680" y="3276720"/>
            <a:ext cx="4191120" cy="2209680"/>
            <a:chOff x="2209680" y="3276720"/>
            <a:chExt cx="4191120" cy="2209680"/>
          </a:xfrm>
        </p:grpSpPr>
        <p:sp>
          <p:nvSpPr>
            <p:cNvPr id="230" name="Rectangle 7"/>
            <p:cNvSpPr/>
            <p:nvPr/>
          </p:nvSpPr>
          <p:spPr>
            <a:xfrm>
              <a:off x="2209680" y="3276720"/>
              <a:ext cx="4191120" cy="2209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2362320" y="345456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V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2362320" y="434340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 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>
              <a:off x="281952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457200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3733920" y="388620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4"/>
          <p:cNvSpPr/>
          <p:nvPr/>
        </p:nvSpPr>
        <p:spPr>
          <a:xfrm>
            <a:off x="75960" y="1828800"/>
            <a:ext cx="90792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What if we had a change in conditio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variables you hav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131920" y="5683320"/>
            <a:ext cx="54295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T and V = Charles’s L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04920" y="4251240"/>
            <a:ext cx="88390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law is being represent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62120" y="1584360"/>
            <a:ext cx="7467480" cy="28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127°C + 273 = 400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3.0 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227°C + 273 = 5oo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he Nature of Gas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752480"/>
            <a:ext cx="8915400" cy="243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 particles can be monatomic (Ne), diatomic (N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), or polyatomic (C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Kristen ITC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) – but they all have these characteristics in common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280" y="3733920"/>
            <a:ext cx="8686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1) Gases have mas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426708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2) Gases are compressi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2280" y="480060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3) Gases fill their contain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52280" y="5334120"/>
            <a:ext cx="8686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4) Gases diff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52280" y="586728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5) Gases exert pressu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52280" y="632448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6) Pressure is dependent on Te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3"/>
          <p:cNvSpPr/>
          <p:nvPr/>
        </p:nvSpPr>
        <p:spPr>
          <a:xfrm>
            <a:off x="380880" y="3049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4) Plug in the variab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199520" y="4343400"/>
            <a:ext cx="6771960" cy="856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500K)(3.0L)   =  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Kristen ITC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400K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5310360" y="5440320"/>
            <a:ext cx="2661840" cy="9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V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 = 3.8L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1371600" y="1295280"/>
            <a:ext cx="6248520" cy="1906200"/>
            <a:chOff x="1371600" y="1295280"/>
            <a:chExt cx="6248520" cy="1906200"/>
          </a:xfrm>
        </p:grpSpPr>
        <p:sp>
          <p:nvSpPr>
            <p:cNvPr id="245" name="Rectangle 16"/>
            <p:cNvSpPr/>
            <p:nvPr/>
          </p:nvSpPr>
          <p:spPr>
            <a:xfrm>
              <a:off x="1371600" y="1295280"/>
              <a:ext cx="5638680" cy="10288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3.0L          V</a:t>
              </a:r>
              <a:r>
                <a:rPr b="1" lang="en-US" sz="5400" spc="-1" strike="noStrike" baseline="-25000">
                  <a:solidFill>
                    <a:srgbClr val="ccccff"/>
                  </a:solidFill>
                  <a:latin typeface="Kristen ITC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1447920" y="2286000"/>
              <a:ext cx="617220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400K       500K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1600200" y="2209680"/>
              <a:ext cx="25146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>
              <a:off x="4876920" y="2209680"/>
              <a:ext cx="259056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0"/>
            <p:cNvSpPr/>
            <p:nvPr/>
          </p:nvSpPr>
          <p:spPr>
            <a:xfrm>
              <a:off x="3962520" y="1752480"/>
              <a:ext cx="990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 </a:t>
              </a: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21"/>
          <p:cNvSpPr/>
          <p:nvPr/>
        </p:nvSpPr>
        <p:spPr>
          <a:xfrm>
            <a:off x="380880" y="32767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5) Cross multiply and chu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Physical science</a:t>
            </a: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top power point here!!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855080" y="609480"/>
            <a:ext cx="5365080" cy="82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Gay Lussac’s La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Old man Lussac determined the relationship between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e measured the temperature of air at different pressures, and observed a pattern of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behavior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which led to his mathematical la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uring his experiments volume of the system and amount of gas were held constan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15"/>
          <p:cNvGrpSpPr/>
          <p:nvPr/>
        </p:nvGrpSpPr>
        <p:grpSpPr>
          <a:xfrm>
            <a:off x="2917800" y="3338640"/>
            <a:ext cx="3801960" cy="3214440"/>
            <a:chOff x="2917800" y="3338640"/>
            <a:chExt cx="3801960" cy="3214440"/>
          </a:xfrm>
        </p:grpSpPr>
        <p:pic>
          <p:nvPicPr>
            <p:cNvPr id="256" name="Picture 3" descr=""/>
            <p:cNvPicPr/>
            <p:nvPr/>
          </p:nvPicPr>
          <p:blipFill>
            <a:blip r:embed="rId1"/>
            <a:stretch/>
          </p:blipFill>
          <p:spPr>
            <a:xfrm>
              <a:off x="2917800" y="3338640"/>
              <a:ext cx="3801960" cy="32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4"/>
            <p:cNvSpPr/>
            <p:nvPr/>
          </p:nvSpPr>
          <p:spPr>
            <a:xfrm>
              <a:off x="2921040" y="3352680"/>
              <a:ext cx="3759120" cy="317520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Freeform 5"/>
          <p:cNvSpPr/>
          <p:nvPr/>
        </p:nvSpPr>
        <p:spPr>
          <a:xfrm>
            <a:off x="5788080" y="487692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ff0066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7340760" y="4444920"/>
            <a:ext cx="71100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 flipH="1" flipV="1">
            <a:off x="7543440" y="457200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7"/>
          <p:cNvGrpSpPr/>
          <p:nvPr/>
        </p:nvGrpSpPr>
        <p:grpSpPr>
          <a:xfrm>
            <a:off x="6769800" y="2286000"/>
            <a:ext cx="2068560" cy="1981080"/>
            <a:chOff x="6769800" y="2286000"/>
            <a:chExt cx="2068560" cy="1981080"/>
          </a:xfrm>
        </p:grpSpPr>
        <p:sp>
          <p:nvSpPr>
            <p:cNvPr id="262" name="Rectangle 8"/>
            <p:cNvSpPr/>
            <p:nvPr/>
          </p:nvSpPr>
          <p:spPr>
            <a:xfrm>
              <a:off x="6769800" y="2286000"/>
              <a:ext cx="2068560" cy="10674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Pressure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Gauge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 flipH="1">
              <a:off x="7696080" y="3429000"/>
              <a:ext cx="76320" cy="838080"/>
            </a:xfrm>
            <a:prstGeom prst="line">
              <a:avLst/>
            </a:prstGeom>
            <a:ln w="50760">
              <a:solidFill>
                <a:srgbClr val="cc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1317960" y="2133720"/>
            <a:ext cx="3508920" cy="1447560"/>
            <a:chOff x="1317960" y="2133720"/>
            <a:chExt cx="3508920" cy="1447560"/>
          </a:xfrm>
        </p:grpSpPr>
        <p:sp>
          <p:nvSpPr>
            <p:cNvPr id="265" name="Rectangle 10"/>
            <p:cNvSpPr/>
            <p:nvPr/>
          </p:nvSpPr>
          <p:spPr>
            <a:xfrm>
              <a:off x="1317960" y="2133720"/>
              <a:ext cx="3508920" cy="57996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99ff"/>
                  </a:solidFill>
                  <a:latin typeface="Kristen ITC"/>
                </a:rPr>
                <a:t>Car before a trip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1"/>
            <p:cNvSpPr/>
            <p:nvPr/>
          </p:nvSpPr>
          <p:spPr>
            <a:xfrm>
              <a:off x="2819520" y="2666880"/>
              <a:ext cx="106668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12"/>
          <p:cNvSpPr/>
          <p:nvPr/>
        </p:nvSpPr>
        <p:spPr>
          <a:xfrm>
            <a:off x="2386440" y="533520"/>
            <a:ext cx="457416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Think of a tire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9"/>
          <p:cNvGrpSpPr/>
          <p:nvPr/>
        </p:nvGrpSpPr>
        <p:grpSpPr>
          <a:xfrm>
            <a:off x="533520" y="3124080"/>
            <a:ext cx="2590560" cy="1827000"/>
            <a:chOff x="533520" y="3124080"/>
            <a:chExt cx="2590560" cy="1827000"/>
          </a:xfrm>
        </p:grpSpPr>
        <p:sp>
          <p:nvSpPr>
            <p:cNvPr id="269" name="AutoShape 13"/>
            <p:cNvSpPr/>
            <p:nvPr/>
          </p:nvSpPr>
          <p:spPr>
            <a:xfrm flipH="1">
              <a:off x="533520" y="3124080"/>
              <a:ext cx="2590560" cy="1827000"/>
            </a:xfrm>
            <a:prstGeom prst="wedgeRoundRectCallout">
              <a:avLst>
                <a:gd name="adj1" fmla="val -41671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>
              <a:off x="679680" y="3306960"/>
              <a:ext cx="223164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Let’s get o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the road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Dude!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106miles.wav" descr=""/>
          <p:cNvPicPr/>
          <p:nvPr/>
        </p:nvPicPr>
        <p:blipFill>
          <a:blip r:embed="rId2"/>
          <a:stretch/>
        </p:blipFill>
        <p:spPr>
          <a:xfrm>
            <a:off x="-121932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2917800" y="3200400"/>
            <a:ext cx="3801960" cy="319104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273" name="Rectangle 4"/>
          <p:cNvSpPr/>
          <p:nvPr/>
        </p:nvSpPr>
        <p:spPr>
          <a:xfrm>
            <a:off x="2921040" y="3216240"/>
            <a:ext cx="3759120" cy="3149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5"/>
          <p:cNvSpPr/>
          <p:nvPr/>
        </p:nvSpPr>
        <p:spPr>
          <a:xfrm>
            <a:off x="5788080" y="471492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ff0066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7340760" y="4282920"/>
            <a:ext cx="71100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 flipV="1">
            <a:off x="7669080" y="4422600"/>
            <a:ext cx="206640" cy="35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6"/>
          <p:cNvGrpSpPr/>
          <p:nvPr/>
        </p:nvGrpSpPr>
        <p:grpSpPr>
          <a:xfrm>
            <a:off x="913680" y="2062080"/>
            <a:ext cx="4185720" cy="1509840"/>
            <a:chOff x="913680" y="2062080"/>
            <a:chExt cx="4185720" cy="1509840"/>
          </a:xfrm>
        </p:grpSpPr>
        <p:sp>
          <p:nvSpPr>
            <p:cNvPr id="278" name="Rectangle 10"/>
            <p:cNvSpPr/>
            <p:nvPr/>
          </p:nvSpPr>
          <p:spPr>
            <a:xfrm>
              <a:off x="913680" y="2062080"/>
              <a:ext cx="4185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99ff"/>
                  </a:solidFill>
                  <a:latin typeface="Kristen ITC"/>
                </a:rPr>
                <a:t>Car after a long trip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1"/>
            <p:cNvSpPr/>
            <p:nvPr/>
          </p:nvSpPr>
          <p:spPr>
            <a:xfrm>
              <a:off x="2590920" y="2657520"/>
              <a:ext cx="106668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3"/>
          <p:cNvGrpSpPr/>
          <p:nvPr/>
        </p:nvGrpSpPr>
        <p:grpSpPr>
          <a:xfrm>
            <a:off x="3243240" y="5934240"/>
            <a:ext cx="395280" cy="847440"/>
            <a:chOff x="3243240" y="5934240"/>
            <a:chExt cx="395280" cy="847440"/>
          </a:xfrm>
        </p:grpSpPr>
        <p:sp>
          <p:nvSpPr>
            <p:cNvPr id="281" name="Freeform 14"/>
            <p:cNvSpPr/>
            <p:nvPr/>
          </p:nvSpPr>
          <p:spPr>
            <a:xfrm>
              <a:off x="3243240" y="5934240"/>
              <a:ext cx="395280" cy="8474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249" h="534">
                  <a:moveTo>
                    <a:pt x="69" y="0"/>
                  </a:moveTo>
                  <a:lnTo>
                    <a:pt x="103" y="99"/>
                  </a:lnTo>
                  <a:lnTo>
                    <a:pt x="93" y="130"/>
                  </a:lnTo>
                  <a:lnTo>
                    <a:pt x="72" y="161"/>
                  </a:lnTo>
                  <a:lnTo>
                    <a:pt x="62" y="192"/>
                  </a:lnTo>
                  <a:lnTo>
                    <a:pt x="51" y="223"/>
                  </a:lnTo>
                  <a:lnTo>
                    <a:pt x="41" y="254"/>
                  </a:lnTo>
                  <a:lnTo>
                    <a:pt x="31" y="285"/>
                  </a:lnTo>
                  <a:lnTo>
                    <a:pt x="20" y="316"/>
                  </a:lnTo>
                  <a:lnTo>
                    <a:pt x="20" y="347"/>
                  </a:lnTo>
                  <a:lnTo>
                    <a:pt x="10" y="389"/>
                  </a:lnTo>
                  <a:lnTo>
                    <a:pt x="10" y="420"/>
                  </a:lnTo>
                  <a:lnTo>
                    <a:pt x="0" y="451"/>
                  </a:lnTo>
                  <a:lnTo>
                    <a:pt x="0" y="482"/>
                  </a:lnTo>
                  <a:lnTo>
                    <a:pt x="0" y="513"/>
                  </a:lnTo>
                  <a:lnTo>
                    <a:pt x="31" y="533"/>
                  </a:lnTo>
                  <a:lnTo>
                    <a:pt x="62" y="533"/>
                  </a:lnTo>
                  <a:lnTo>
                    <a:pt x="93" y="523"/>
                  </a:lnTo>
                  <a:lnTo>
                    <a:pt x="124" y="492"/>
                  </a:lnTo>
                  <a:lnTo>
                    <a:pt x="134" y="461"/>
                  </a:lnTo>
                  <a:lnTo>
                    <a:pt x="155" y="430"/>
                  </a:lnTo>
                  <a:lnTo>
                    <a:pt x="176" y="399"/>
                  </a:lnTo>
                  <a:lnTo>
                    <a:pt x="186" y="368"/>
                  </a:lnTo>
                  <a:lnTo>
                    <a:pt x="196" y="337"/>
                  </a:lnTo>
                  <a:lnTo>
                    <a:pt x="207" y="306"/>
                  </a:lnTo>
                  <a:lnTo>
                    <a:pt x="217" y="275"/>
                  </a:lnTo>
                  <a:lnTo>
                    <a:pt x="217" y="244"/>
                  </a:lnTo>
                  <a:lnTo>
                    <a:pt x="217" y="213"/>
                  </a:lnTo>
                  <a:lnTo>
                    <a:pt x="227" y="182"/>
                  </a:lnTo>
                  <a:lnTo>
                    <a:pt x="238" y="151"/>
                  </a:lnTo>
                  <a:lnTo>
                    <a:pt x="248" y="120"/>
                  </a:lnTo>
                  <a:lnTo>
                    <a:pt x="248" y="89"/>
                  </a:lnTo>
                  <a:lnTo>
                    <a:pt x="217" y="78"/>
                  </a:lnTo>
                  <a:lnTo>
                    <a:pt x="186" y="68"/>
                  </a:lnTo>
                  <a:lnTo>
                    <a:pt x="155" y="47"/>
                  </a:lnTo>
                  <a:lnTo>
                    <a:pt x="124" y="47"/>
                  </a:lnTo>
                  <a:lnTo>
                    <a:pt x="103" y="78"/>
                  </a:lnTo>
                  <a:lnTo>
                    <a:pt x="93" y="109"/>
                  </a:lnTo>
                  <a:lnTo>
                    <a:pt x="117" y="96"/>
                  </a:lnTo>
                </a:path>
              </a:pathLst>
            </a:custGeom>
            <a:solidFill>
              <a:srgbClr val="ff003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3341520" y="6086520"/>
              <a:ext cx="165240" cy="630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04" h="397">
                  <a:moveTo>
                    <a:pt x="103" y="0"/>
                  </a:moveTo>
                  <a:lnTo>
                    <a:pt x="83" y="44"/>
                  </a:lnTo>
                  <a:lnTo>
                    <a:pt x="83" y="75"/>
                  </a:lnTo>
                  <a:lnTo>
                    <a:pt x="72" y="106"/>
                  </a:lnTo>
                  <a:lnTo>
                    <a:pt x="62" y="148"/>
                  </a:lnTo>
                  <a:lnTo>
                    <a:pt x="41" y="179"/>
                  </a:lnTo>
                  <a:lnTo>
                    <a:pt x="41" y="210"/>
                  </a:lnTo>
                  <a:lnTo>
                    <a:pt x="31" y="241"/>
                  </a:lnTo>
                  <a:lnTo>
                    <a:pt x="21" y="272"/>
                  </a:lnTo>
                  <a:lnTo>
                    <a:pt x="10" y="303"/>
                  </a:lnTo>
                  <a:lnTo>
                    <a:pt x="10" y="334"/>
                  </a:lnTo>
                  <a:lnTo>
                    <a:pt x="10" y="365"/>
                  </a:lnTo>
                  <a:lnTo>
                    <a:pt x="0" y="396"/>
                  </a:lnTo>
                  <a:lnTo>
                    <a:pt x="7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Rectangle 18"/>
          <p:cNvSpPr/>
          <p:nvPr/>
        </p:nvSpPr>
        <p:spPr>
          <a:xfrm>
            <a:off x="2386440" y="533520"/>
            <a:ext cx="457416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Think of a tire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22"/>
          <p:cNvGrpSpPr/>
          <p:nvPr/>
        </p:nvGrpSpPr>
        <p:grpSpPr>
          <a:xfrm>
            <a:off x="1066680" y="3429000"/>
            <a:ext cx="1981440" cy="1294920"/>
            <a:chOff x="1066680" y="3429000"/>
            <a:chExt cx="1981440" cy="1294920"/>
          </a:xfrm>
        </p:grpSpPr>
        <p:sp>
          <p:nvSpPr>
            <p:cNvPr id="285" name="AutoShape 20"/>
            <p:cNvSpPr/>
            <p:nvPr/>
          </p:nvSpPr>
          <p:spPr>
            <a:xfrm flipH="1">
              <a:off x="1066680" y="3429000"/>
              <a:ext cx="1981440" cy="1294920"/>
            </a:xfrm>
            <a:prstGeom prst="wedgeRoundRectCallout">
              <a:avLst>
                <a:gd name="adj1" fmla="val -41671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1311480" y="3811320"/>
              <a:ext cx="1442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WHEW!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6769800" y="2133720"/>
            <a:ext cx="2068560" cy="1981080"/>
            <a:chOff x="6769800" y="2133720"/>
            <a:chExt cx="2068560" cy="1981080"/>
          </a:xfrm>
        </p:grpSpPr>
        <p:sp>
          <p:nvSpPr>
            <p:cNvPr id="288" name="Rectangle 24"/>
            <p:cNvSpPr/>
            <p:nvPr/>
          </p:nvSpPr>
          <p:spPr>
            <a:xfrm>
              <a:off x="6769800" y="2133720"/>
              <a:ext cx="2068560" cy="10674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Pressure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Gauge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>
              <a:off x="7696080" y="3276720"/>
              <a:ext cx="76320" cy="838080"/>
            </a:xfrm>
            <a:prstGeom prst="line">
              <a:avLst/>
            </a:prstGeom>
            <a:ln w="50760">
              <a:solidFill>
                <a:srgbClr val="cc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Picture 28" descr=""/>
          <p:cNvPicPr/>
          <p:nvPr/>
        </p:nvPicPr>
        <p:blipFill>
          <a:blip r:embed="rId2"/>
          <a:stretch/>
        </p:blipFill>
        <p:spPr>
          <a:xfrm>
            <a:off x="-76212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381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431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rdita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810"/>
                            </p:stCondLst>
                            <p:childTnLst>
                              <p:par>
                                <p:cTn id="1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2546280" y="6070680"/>
            <a:ext cx="3003120" cy="519120"/>
            <a:chOff x="2546280" y="6070680"/>
            <a:chExt cx="3003120" cy="519120"/>
          </a:xfrm>
        </p:grpSpPr>
        <p:sp>
          <p:nvSpPr>
            <p:cNvPr id="292" name="Rectangle 3"/>
            <p:cNvSpPr/>
            <p:nvPr/>
          </p:nvSpPr>
          <p:spPr>
            <a:xfrm>
              <a:off x="2546280" y="6070680"/>
              <a:ext cx="300312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"/>
            <p:cNvSpPr/>
            <p:nvPr/>
          </p:nvSpPr>
          <p:spPr>
            <a:xfrm>
              <a:off x="4028400" y="6364080"/>
              <a:ext cx="12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7"/>
          <p:cNvGrpSpPr/>
          <p:nvPr/>
        </p:nvGrpSpPr>
        <p:grpSpPr>
          <a:xfrm>
            <a:off x="1116000" y="2438280"/>
            <a:ext cx="519120" cy="2808000"/>
            <a:chOff x="1116000" y="2438280"/>
            <a:chExt cx="519120" cy="2808000"/>
          </a:xfrm>
        </p:grpSpPr>
        <p:sp>
          <p:nvSpPr>
            <p:cNvPr id="295" name="Rectangle 8"/>
            <p:cNvSpPr/>
            <p:nvPr/>
          </p:nvSpPr>
          <p:spPr>
            <a:xfrm rot="16200000">
              <a:off x="-28080" y="3582720"/>
              <a:ext cx="280800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Pressur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 flipV="1">
              <a:off x="1388880" y="2526120"/>
              <a:ext cx="0" cy="108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5"/>
          <p:cNvSpPr/>
          <p:nvPr/>
        </p:nvSpPr>
        <p:spPr>
          <a:xfrm>
            <a:off x="609480" y="15228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ow does Pressure and Temperature of gases relate graphicall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844640" y="1981080"/>
            <a:ext cx="4378320" cy="386100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782040" y="3151080"/>
            <a:ext cx="1631160" cy="641160"/>
          </a:xfrm>
          <a:prstGeom prst="rect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6339600" y="4249800"/>
            <a:ext cx="270432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Volum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# of partic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remain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"/>
          <p:cNvSpPr/>
          <p:nvPr/>
        </p:nvSpPr>
        <p:spPr>
          <a:xfrm flipV="1">
            <a:off x="2133720" y="2286000"/>
            <a:ext cx="3809880" cy="3124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38200" y="685800"/>
            <a:ext cx="793296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Lussac’s Mathematical Law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5960" y="1828800"/>
            <a:ext cx="90792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What if we had a change in conditio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781360" y="2514600"/>
            <a:ext cx="29998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ince P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2209680" y="3276720"/>
            <a:ext cx="4191120" cy="2209680"/>
            <a:chOff x="2209680" y="3276720"/>
            <a:chExt cx="4191120" cy="2209680"/>
          </a:xfrm>
        </p:grpSpPr>
        <p:sp>
          <p:nvSpPr>
            <p:cNvPr id="306" name="Rectangle 7"/>
            <p:cNvSpPr/>
            <p:nvPr/>
          </p:nvSpPr>
          <p:spPr>
            <a:xfrm>
              <a:off x="2209680" y="3276720"/>
              <a:ext cx="4191120" cy="2209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2362320" y="345456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 P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362320" y="434340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 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281952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57200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>
              <a:off x="3733920" y="388620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Text Box 13"/>
          <p:cNvSpPr/>
          <p:nvPr/>
        </p:nvSpPr>
        <p:spPr>
          <a:xfrm>
            <a:off x="152280" y="5638680"/>
            <a:ext cx="8915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Eg:  A gas has a pressure of 3.0 atm at 127º C.  What is its pressure at 227º C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1131120" y="5791320"/>
            <a:ext cx="624636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T and P = Gay-Lussac’s L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762120" y="1523880"/>
            <a:ext cx="7924680" cy="314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127°C + 273 = 400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3.0 at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227°C + 273 = 500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variables you hav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533520" y="4251240"/>
            <a:ext cx="70102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law is being represent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380880" y="3049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4) Plug in the variab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94440" y="4191120"/>
            <a:ext cx="7572240" cy="856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500K)(3.0atm)   =  P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Kristen ITC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400K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5204880" y="5440320"/>
            <a:ext cx="3536640" cy="9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P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 = 3.8at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21"/>
          <p:cNvGrpSpPr/>
          <p:nvPr/>
        </p:nvGrpSpPr>
        <p:grpSpPr>
          <a:xfrm>
            <a:off x="1371600" y="1295280"/>
            <a:ext cx="6248520" cy="1906200"/>
            <a:chOff x="1371600" y="1295280"/>
            <a:chExt cx="6248520" cy="1906200"/>
          </a:xfrm>
        </p:grpSpPr>
        <p:sp>
          <p:nvSpPr>
            <p:cNvPr id="321" name="Rectangle 15"/>
            <p:cNvSpPr/>
            <p:nvPr/>
          </p:nvSpPr>
          <p:spPr>
            <a:xfrm>
              <a:off x="1371600" y="1295280"/>
              <a:ext cx="5638680" cy="10288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3.0atm        P</a:t>
              </a:r>
              <a:r>
                <a:rPr b="1" lang="en-US" sz="5400" spc="-1" strike="noStrike" baseline="-25000">
                  <a:solidFill>
                    <a:srgbClr val="ccccff"/>
                  </a:solidFill>
                  <a:latin typeface="Kristen ITC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1447920" y="2286000"/>
              <a:ext cx="617220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400K       500K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7"/>
            <p:cNvSpPr/>
            <p:nvPr/>
          </p:nvSpPr>
          <p:spPr>
            <a:xfrm>
              <a:off x="1600200" y="2209680"/>
              <a:ext cx="25146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>
              <a:off x="4876920" y="2209680"/>
              <a:ext cx="259056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9"/>
            <p:cNvSpPr/>
            <p:nvPr/>
          </p:nvSpPr>
          <p:spPr>
            <a:xfrm>
              <a:off x="3962520" y="1752480"/>
              <a:ext cx="990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 </a:t>
              </a: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Text Box 20"/>
          <p:cNvSpPr/>
          <p:nvPr/>
        </p:nvSpPr>
        <p:spPr>
          <a:xfrm>
            <a:off x="380880" y="32767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5) Cross multiply and chu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2"/>
          <p:cNvSpPr txBox="1"/>
          <p:nvPr/>
        </p:nvSpPr>
        <p:spPr>
          <a:xfrm>
            <a:off x="1828800" y="5335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Kristen ITC"/>
              </a:rPr>
              <a:t>Summ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Kristen ITC"/>
              <a:ea typeface="Kristen ITC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6320" y="1828800"/>
          <a:ext cx="9067680" cy="4952880"/>
        </p:xfrm>
        <a:graphic>
          <a:graphicData uri="http://schemas.openxmlformats.org/drawingml/2006/table">
            <a:tbl>
              <a:tblPr/>
              <a:tblGrid>
                <a:gridCol w="2266920"/>
                <a:gridCol w="1923840"/>
                <a:gridCol w="3124440"/>
                <a:gridCol w="175248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LAW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RELAT-IONSHIP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LAW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CON-STAN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Boyle’s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V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= 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, n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harles’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T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= 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, n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Gay-Lussac’s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T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= 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, n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inetic Molecular Theor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ere is a theory that modern day chemist’s use to explain the behaviors and characteristics of gases - the Kinetic Molecular Theory of Matter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408240">
              <a:lnSpc>
                <a:spcPct val="90000"/>
              </a:lnSpc>
              <a:spcBef>
                <a:spcPts val="950"/>
              </a:spcBef>
              <a:buClr>
                <a:srgbClr val="99ffcc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ffcc"/>
                </a:solidFill>
                <a:latin typeface="Kristen ITC"/>
              </a:rPr>
              <a:t>The word kinetic refers to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motion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408240">
              <a:lnSpc>
                <a:spcPct val="90000"/>
              </a:lnSpc>
              <a:spcBef>
                <a:spcPts val="950"/>
              </a:spcBef>
              <a:buClr>
                <a:srgbClr val="99ffcc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ffcc"/>
                </a:solidFill>
                <a:latin typeface="Kristen ITC"/>
              </a:rPr>
              <a:t>The word molecular refers to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molecul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inetic Molecular Theor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e theory states that the tiny particles in all forms of matter in all forms of matter are in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nstant motion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is theory is used to explain the behaviors common among ga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ere are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basic assumptions of the KMT as it applies to gas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MT Assumption #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A gas is composed of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small hard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 partic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The particles have an insignificant volume and are relatively far apart from one another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There is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empty space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 between partic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No attractive or repulsive forces between partic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1:49:32Z</dcterms:created>
  <dc:creator>Jason and Kathy Swango</dc:creator>
  <dc:description>Sightly Modified by Mr. Pol</dc:description>
  <dc:language>en-US</dc:language>
  <cp:lastModifiedBy>jluckey</cp:lastModifiedBy>
  <dcterms:modified xsi:type="dcterms:W3CDTF">2012-11-06T00:48:34Z</dcterms:modified>
  <cp:revision>160</cp:revision>
  <dc:subject/>
  <dc:title>PowerPoint Presentation</dc:title>
</cp:coreProperties>
</file>